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AF96-D0E4-48C3-8100-BF73877A7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8B69-65D6-4971-ABCD-15C78F3C33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7D242-CB61-4DF9-8F05-BD8CE6F959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F54D-E97C-43AF-80CF-BC0A559801B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FDD0-D0DB-4810-B719-5E48BE801D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7098-E486-4CF2-8454-038B49AD6E4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2D2B-4A77-4453-99D0-74DEED443E2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30A-4984-47AB-B1AD-1DBA1F6AA7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A23F-29B7-4C15-B6CD-BB14318229D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AFF-5AED-429E-B14C-ABE5DD25EA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2DF-478D-4AC1-B549-3006DE9FEE8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9127-7340-472E-BA96-0B9A391BD8C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394E-6B53-4CD3-970A-7D3364790E2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3726-221E-4A24-83A2-5452345A5FB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8741-4037-4D31-8170-96FA24567E4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AB05-71B7-4AB1-A4F4-7CB0E9FFE47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95EE-446B-4CD8-9CFC-D2BF21A8CF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580E-5E6E-481B-90B9-D393B005DB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257-3AD9-44B2-BB3D-B64496A44B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576B-2CE8-467F-B07E-27207214D3A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86A3-45D9-45BC-8319-81405BA5965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A5D5-81D3-4F3E-BA8E-2E381599F3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973-03B5-4E65-AF38-FFC673B6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0607-0EAE-45EF-A68A-BE789DB7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F3C-7432-4B16-B26E-A44D1082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BA7-18C5-4BD5-9DDD-0D3E1021A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B5AF-2E53-4D4B-AD58-6041EB70C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387B-2EFF-4815-82B5-B3A15DA7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E321-B63E-4311-AC12-D7979498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69AD-CB4B-44A2-8DE4-76029B42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8F3-710B-4372-A6EB-21E895B4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954DB-6414-4084-9796-9FA8A650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77CB-A212-4386-AFA7-6664D422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B27-8624-4782-9F19-8D5DDF17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35A1-F6B5-4558-BE8D-E46EDB6B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FB9-25DD-43E6-B773-50F421E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314-9883-4099-ABD3-6EE4C4E8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BC04-63D2-4FAB-9407-E18FF3CD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0B0B-E759-420A-BC04-ACACFC65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432-FEBB-456C-8125-B81BAE21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D04-CADC-4FA0-B913-8B7261AB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09F-6C8A-4303-B561-93F4DB8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EE7D-B616-4FE6-A685-4C05850E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E0F-EFE5-4B08-A416-EFDE6E70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1A2B-BBDF-48AF-AC9A-DC7843F4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8AFC-339A-4DD4-87D3-6691983B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8556-1251-49FD-9FD1-EBA6A40B60B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E108D-38D6-4F87-B4FE-80BEA05E72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hapter 12 – Agriculture and the Environ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Picture 4" descr="feedlot_lg"/>
          <p:cNvPicPr/>
          <p:nvPr/>
        </p:nvPicPr>
        <p:blipFill>
          <a:blip r:embed="rId1"/>
          <a:stretch/>
        </p:blipFill>
        <p:spPr>
          <a:xfrm>
            <a:off x="533520" y="327024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PM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ms at control not eli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s a combo of methods incl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iological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insectici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rtain crop planting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M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erhybr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rminator Ge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 transfer (transgenic crop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838080"/>
            <a:ext cx="822960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Some Causes of Desertifi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Poor farm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Overgraz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emical poisoning of the so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Kesterson Wildlife Refu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048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ificial wetl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ly 1980s received agricultural drainage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supposed to drain to sea, didn’t finish it (oops!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nium accumulated in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-irrigating to leach out salt buildup  caused the probl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5" descr="image of location map shows kesterson national wildlife refuge, cretaceous and tertiary sedimentary basins, and locations of onshore oil and gas fields, highlighting the Cheney Ranch 1 and Magnet Fearon 2 oil wells"/>
          <p:cNvPicPr/>
          <p:nvPr/>
        </p:nvPicPr>
        <p:blipFill>
          <a:blip r:embed="rId1"/>
          <a:stretch/>
        </p:blipFill>
        <p:spPr>
          <a:xfrm>
            <a:off x="3505320" y="1676520"/>
            <a:ext cx="4886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embry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ified a tox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at plans to continue drainage to s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image of a normal, upper left, and deformed birds from the kesterson national wildlife refuge in california's central valley"/>
          <p:cNvPicPr/>
          <p:nvPr/>
        </p:nvPicPr>
        <p:blipFill>
          <a:blip r:embed="rId1"/>
          <a:stretch/>
        </p:blipFill>
        <p:spPr>
          <a:xfrm>
            <a:off x="4114800" y="1447920"/>
            <a:ext cx="4019400" cy="5105160"/>
          </a:xfrm>
          <a:prstGeom prst="rect">
            <a:avLst/>
          </a:prstGeom>
          <a:ln w="0">
            <a:noFill/>
          </a:ln>
        </p:spPr>
      </p:pic>
      <p:sp>
        <p:nvSpPr>
          <p:cNvPr id="131" name="Line 6"/>
          <p:cNvSpPr/>
          <p:nvPr/>
        </p:nvSpPr>
        <p:spPr>
          <a:xfrm>
            <a:off x="3429000" y="1981080"/>
            <a:ext cx="990720" cy="457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0" y="6324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e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648320" y="6248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fe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Line 9"/>
          <p:cNvSpPr/>
          <p:nvPr/>
        </p:nvSpPr>
        <p:spPr>
          <a:xfrm flipH="1" flipV="1">
            <a:off x="7238520" y="5257440"/>
            <a:ext cx="228600" cy="10666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Line 10"/>
          <p:cNvSpPr/>
          <p:nvPr/>
        </p:nvSpPr>
        <p:spPr>
          <a:xfrm flipV="1">
            <a:off x="5105520" y="5333760"/>
            <a:ext cx="0" cy="99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Desertification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Cau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iverting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tting tre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nging weather patterns/ Global climate chan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00"/>
                </a:solidFill>
                <a:latin typeface="Garamond"/>
              </a:rPr>
              <a:t>Desertification data</a:t>
            </a:r>
            <a:endParaRPr b="0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Who’s most immediately affecte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70 percent of the world's drylands are degraded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in the world are affected to some degree by desertification. </a:t>
            </a:r>
            <a:br>
              <a:rPr sz="2400"/>
            </a:b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00"/>
                </a:solidFill>
                <a:latin typeface="Verdana"/>
              </a:rPr>
              <a:t>Globally it is estimated that the annual income lost in the areas affected by desertification 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Map59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Garamond"/>
              </a:rPr>
              <a:t>Important Legisl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ervation Research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od Securities 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stainable Agriculture Research and Education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UNCCD: 199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nvention to Combat Deser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00 nations ra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00 million dollars to fund projects to stop 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Factory Farming: Increasing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tibiotics are commonly used in animal p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imals are bred to grow faster and to be more desirable for marke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.g chickens with more breast me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nthetic hormones are approved for 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owth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lk production horm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00"/>
                </a:solidFill>
                <a:latin typeface="Verdana"/>
              </a:rPr>
              <a:t>Tex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5" descr="soilparticles"/>
          <p:cNvPicPr/>
          <p:nvPr/>
        </p:nvPicPr>
        <p:blipFill>
          <a:blip r:embed="rId1"/>
          <a:stretch/>
        </p:blipFill>
        <p:spPr>
          <a:xfrm>
            <a:off x="2362320" y="380880"/>
            <a:ext cx="6172200" cy="62485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6171840" y="518148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Beef Produc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edl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d corn instead of gras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fined in a small ar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ecal material accumul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ease spreads readi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micals used to control dise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Waste Production..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ter 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eatment requir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dor/airborne 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ste treatment regulations are more lax than for waste from peo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oil Ero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09720" y="2685600"/>
            <a:ext cx="400860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- organic mater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–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1111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erals (botto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 - zone of lea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 – high in leached minerals from abo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 – original parent material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112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5410080" y="1219320"/>
            <a:ext cx="3733920" cy="45972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IL STRUC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oals of sustainable farmin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ustainable farming practices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he following reduce soil erosion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Contour plow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Terracing hill s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Shelterbel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00"/>
                </a:solidFill>
                <a:latin typeface="Verdana"/>
              </a:rPr>
              <a:t>Low or No Till Plowing (wind and w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rop Rotation (keeps nutrients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tating heavy feeders, mode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eeders with soil build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crop rotation, three sisters"/>
          <p:cNvPicPr/>
          <p:nvPr/>
        </p:nvPicPr>
        <p:blipFill>
          <a:blip r:embed="rId1"/>
          <a:stretch/>
        </p:blipFill>
        <p:spPr>
          <a:xfrm>
            <a:off x="685800" y="838080"/>
            <a:ext cx="502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ver Crop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nt during fallow(off) seas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eep nitrates from leaching out of topsoi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keep soil orgs healthy and “fe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vents excess N from runoff into water supp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est Managemen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oad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rrow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d Pest Management (IP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8:42:30Z</dcterms:created>
  <dc:creator>tosborne</dc:creator>
  <dc:description/>
  <dc:language>en-US</dc:language>
  <cp:lastModifiedBy>Teri Osborne</cp:lastModifiedBy>
  <dcterms:modified xsi:type="dcterms:W3CDTF">2011-11-14T02:11:27Z</dcterms:modified>
  <cp:revision>39</cp:revision>
  <dc:subject/>
  <dc:title>Slide 1</dc:title>
</cp:coreProperties>
</file>